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EE37-827A-4D3B-8656-E6C736EC8B44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D7B0-25BF-489B-A9A9-DD192D5CADE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785C-115C-4357-9527-D778F444EB4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13A2-59E6-4C17-BE31-791360717DB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C974-7884-4DF6-B758-5B7359A6D4C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ED3D-3085-422D-9625-17CB51BDE95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D8F2-013F-4AB5-8E23-F587AF2C9BA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0944-B204-4743-8A78-2016B2715E3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7878-8E03-4C82-B8C5-9204C0F4300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1B5C-2DDB-45B4-A178-7466A7ADE89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4B1-6581-470E-B51B-5C29643AC79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F62A-64EB-4FB4-8937-8546CBA56B3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754A-F105-424A-950F-6CFC86ACEE9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4EF5-D3D8-4869-A81B-FAA3E70F65A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707A-0A12-4C29-BE65-2461BC34A23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EECB-C79C-4089-A9F6-DE7D56C1F18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4497-5418-4172-AB19-9E83E09F2BD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49AB-705A-4826-B0D9-00119002714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2690-4DB4-4074-B4FC-582EC98EEC0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4AE-F49C-4A0E-BB45-3722235E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991-AAEB-42C7-ACD4-1286BA5D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AAC-E6A0-4FD6-840C-3D03DB27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0C4-BF7E-478F-9ECB-8475F8D5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A6E8-CDFA-48B7-817E-2D943E72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0156-1CA1-4E3B-9B30-2E9B4A69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A0E7-A312-4B2A-98FC-0527A4EA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996F-3FBE-454B-A033-B3B45C2B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059D-4C9C-4BB7-8303-FE7E908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49B5-DC11-4740-AF30-6FE614E0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C2A1-DA63-4D81-BD8B-83D6C1CA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D30-C5B5-4AB9-AC0D-87F116CC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4097-17C3-4ACB-8788-38D124F3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B93C-D8A7-4DA0-84B5-B37DE05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8DCF-612C-4806-8706-58CE67A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E53D-6A5C-4574-9742-5FAB74B4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F0A5-9C88-4B9B-9DD9-D9E34372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F457-DFCA-40CD-8A6F-EB5F94BD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F1F1-5E15-4D00-877C-95BC05F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4A88-9D0C-4E40-A321-C325ADB0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47C7-19D2-4217-B14E-BF4931FF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FE6D-2889-4BFA-A8FA-E37BC16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84E-2776-4F88-BE84-0AE78F5A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6D153-7E34-4102-A721-52E452D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00312-194C-44A5-9FEE-AA886B2E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82A7-59A3-4AD2-B5ED-426FE0CF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189F-36E4-4A31-B01D-8B4825B3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9C5A-AC26-4954-A264-A8D38B59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FED6-0088-4A0C-A592-5618C45E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D45E-3754-41A5-BB88-40E8A86D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8782-A5BB-4373-826E-DE97FCEB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A752-BCEA-4CB7-A0DE-CE6E92AC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215F-BBAF-40E4-BFB4-40F5BA0E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F38-A69F-4983-9A02-E75D075A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77183-6644-4808-BB8B-AAD3A6E7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EA5E0-273D-45E4-BBBD-9894B91B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19861-5297-42D4-B416-F0978857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63D6B-A3BA-4E75-BE58-D017B813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95238-9C2F-4712-9892-43AC037F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115C3-C2F5-4AEC-B9E7-E0D31D85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7E8E2-286D-432A-BE22-23B5A8F7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6A121-4248-4EEB-9F13-18110F50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4116-E1B9-485D-BE43-5AF7A727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F2EBD-513E-4F65-ADFF-203B8577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CBC-2788-424C-9C56-698A816E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41A6F-7289-4E4F-8DF8-089FB161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955B-588A-41DE-9DEA-5663BCFE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62655-8B7E-4B02-89A4-A5934700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73252-0462-4A3B-899A-5A7C3850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5119E-8B25-4DA3-A5F6-80EBEED1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67A0B-4B4C-4192-B3D0-E8DD0F9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0EA3D-2F12-499C-9615-27D6FEC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28059-ECE7-42C0-BA3D-930725F8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82D73-DF4A-4E70-BCDD-2B09C3B2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42A28-3CD3-46B9-A4CA-7E5901EA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FF1-3D4B-4426-BD16-742749AB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DBFAD-6AD6-4D79-9EC8-144966A2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8E5A-B0BC-42C2-A2A5-EE09ECB6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01E11-7B1E-416A-8B67-33772C55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F6CBD-1196-4B4E-B86B-085E176C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06F79-AD44-4718-ACE8-6E4BE3A9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5C5D-E875-4AC3-ACBD-C07931FF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F54AC-414E-49B0-B603-6E61BA9C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0CE4-4560-4140-B51F-CEB1D674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26108-B5CA-4F7F-AF2F-C5D0D411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3F862-DCF5-4CE9-B52A-D6BD52C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C04-910B-4F96-AD02-A1040F57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B4D71-5396-4157-876D-208C5291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1B276-3148-4695-B08A-5EA082E8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41B0-13FC-4337-AA22-29E7A9E8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A6EAC-0671-4C9D-8E71-C8D24936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6074B-C604-451B-B78C-CDA39274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4A1A1-CFF6-4E0F-9CCA-54EFB573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8F8F3-B2A1-4713-A980-9A4C5CF5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5694A-B766-46E2-9795-3419DEF0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A0B3-B547-4736-AC6C-1FE556CF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9F27F-C831-40E2-A14C-93FC2A27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0B2-6E37-4AF2-A860-EC366BA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FC27A-6722-4192-AC1E-4595D702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94B77-51E1-4C35-8C00-7ABDC792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813E2-CC48-481F-AF8C-5EBE1B20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78FA2-31E7-4144-A417-84F8BADC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19766-09D5-4C21-B7D8-AAA0760F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604-3407-4122-8661-C69706FD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A572-C96E-4B4A-80A6-AFE731DB075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A21E-EF74-435C-918A-AE9CFA68FA0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51E3-0EA1-4BD9-B114-77296FAEC4E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19F7-B4E9-4FB2-BE95-41601D47793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F7A0-DCB5-43DD-BBE7-A1A2F989D1EB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B68C-96F3-42E8-8B01-6DB6C6A29284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911B-6137-47D5-96B6-B09ECCE4E46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h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User</cp:lastModifiedBy>
  <dcterms:modified xsi:type="dcterms:W3CDTF">2019-02-11T13:00:14Z</dcterms:modified>
  <cp:revision>93</cp:revision>
  <dc:subject/>
  <dc:title>Finansijski menadžment</dc:title>
</cp:coreProperties>
</file>